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FFA-48B6-4F9C-97F1-40740056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8B3-2400-4F25-BEE3-6E0AB28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C43-16B1-448B-98B2-CDF7C684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C9A-18C6-4B89-A489-9F612649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7BC8-C63E-40F6-97D1-A83B546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71CE-2E54-4908-A377-B34EB76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8445-B760-4AF4-AB2C-41A599C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8A13-102D-4F5B-875B-651590B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2F7-FF34-4D45-B504-25AB15B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5F5-4F9F-40AD-AD1E-E77373D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B46-0143-4263-8BD0-6BDE8E27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615-E4BE-41E7-91F7-16BE6970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085E-11E4-4900-86D5-D5A1BAE4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6C7A-1741-4C86-9C94-490817C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99D-09CC-4A7B-B742-663E4659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776E-4B85-4BF7-874B-7FCFF71A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605B-26A5-4208-8473-94C7B30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FC4-D4F9-42AC-A15D-51821C48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5CA-88B1-4100-B19E-072B6A9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70A-56D6-4D5F-B416-0A9F672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A9A-786D-4E0D-B0FA-100308B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D8A-27B9-4633-85D5-2016651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6B7-6220-497F-BDFC-EA54318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110-D8CD-4167-B96A-2F1E49F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EF8-BCE3-4EDF-B476-F4D54A3A0A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46E2-F10F-4ECC-BBDB-37082ED6C7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S – Unit 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uman Evolution - Anthrop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576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mini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is any member of the biological family Hominidae (the "great apes"), including the humans, chimps, bonobos, gorillas and orangut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in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2392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bitual Bipedal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Bipedali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o habitually walk on two legs.  Humans only primate with this adap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ad to happen for us to stand up straigh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Photo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pedalism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uctural changes required for us to walk uprigh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shaped sp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ble arched foo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lvis – shorter and w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gluteus musc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wer head / neck muscles – therefore a bigger br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733920" cy="289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2895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being biped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 hands for carr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walk longer dista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a continuous good view of surroun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46483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sadvantage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eing biped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ly dangerous birthing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fspring very dependent and weak because the skull must grow outside of the w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124080" cy="2422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763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s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in Siz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26668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s have the largest brain for our body mass compared to other mamm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57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62320"/>
          <a:ext cx="7848720" cy="3227400"/>
        </p:xfrm>
        <a:graphic>
          <a:graphicData uri="http://schemas.openxmlformats.org/drawingml/2006/table">
            <a:tbl>
              <a:tblPr/>
              <a:tblGrid>
                <a:gridCol w="1676520"/>
                <a:gridCol w="3200400"/>
                <a:gridCol w="297180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cial structur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minance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lverbacks and alpha males in a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oom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lated to the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ess relea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ir Bonding AND Group Liv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umans are the only primates to have both social characteristics simultaneousl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2816280"/>
              </a:tblGrid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rodu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trus cycle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in heat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choice of when to m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ho gets to mate when ties into dominance and grooming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estrus cyc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ice in when to m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2362320"/>
          <a:ext cx="7693200" cy="375264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28162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ther – Infant relationshi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 infant dependency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ared to other mammal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ortant in learning survival skills and cul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est infant dependency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iod of all primat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olutionary The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rles Darwin 1809-188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Origin of the Spec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185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lapagos Islands – observed different species of fi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versial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0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2362320"/>
          <a:ext cx="7693200" cy="3733560"/>
        </p:xfrm>
        <a:graphic>
          <a:graphicData uri="http://schemas.openxmlformats.org/drawingml/2006/table">
            <a:tbl>
              <a:tblPr/>
              <a:tblGrid>
                <a:gridCol w="2210040"/>
                <a:gridCol w="2666880"/>
                <a:gridCol w="28162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ial displays, call, tou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eech centre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in the b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umanity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r Vari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42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ur bodies are essentially 50 000 years old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w culture, not physical evolution enables us to adapt very quickly to a changing environmen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</a:rPr>
              <a:t>Race -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ultural construct – does not physically ex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3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kin Colour - </a:t>
            </a:r>
            <a:r>
              <a:rPr b="0" i="1" lang="en-GB" sz="3200" spc="-1" strike="noStrike">
                <a:solidFill>
                  <a:srgbClr val="006666"/>
                </a:solidFill>
                <a:latin typeface="Arial"/>
              </a:rPr>
              <a:t>Legitimate Explanations for Human Var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nlight is the best source of vitamin D (necessary for healthy b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ght skin absorbs vitamin D and burns more easily than darker skin          Paler skin is found in areas further from the equator where there is less sunlight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environmental Fit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kin colour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vari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34340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02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kin Colour - </a:t>
            </a:r>
            <a:r>
              <a:rPr b="0" i="1" lang="en-GB" sz="3200" spc="-1" strike="noStrike">
                <a:solidFill>
                  <a:srgbClr val="006666"/>
                </a:solidFill>
                <a:latin typeface="Arial"/>
              </a:rPr>
              <a:t>Legitimate Explanations for Human Var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arker skin provides better protection from UV rays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arker skin is found in areas closer to the equator where there is more and stronger sunlight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environmental Fit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kin colour (variation)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Origin of Species - 1859"/>
          <p:cNvPicPr/>
          <p:nvPr/>
        </p:nvPicPr>
        <p:blipFill>
          <a:blip r:embed="rId1"/>
          <a:stretch/>
        </p:blipFill>
        <p:spPr>
          <a:xfrm>
            <a:off x="1219320" y="685800"/>
            <a:ext cx="6975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rwin’s Theory –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Natural Sele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itabil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Organisms inherit characteristics from their par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there is a lot of variation within a spe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nvironmental Fitn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Those traits that allow an individual to survive to reproductive age – to pass on to offsp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rwin’s Finc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362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xample of Var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5562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ppered Moth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UK – </a:t>
            </a:r>
            <a:br>
              <a:rPr sz="32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example of natural select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ite and Black moths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Variatio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od source for bi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ore Industrial Rev. most moths – white - better camouflaged against white lichen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Enviromental Fitnes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strial Rev – coal dust turned environment black, now black moths better camouflaged.  Black moths now surviving to reproduce and pass their colour to next generation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Heritabil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, most moths are black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(natural selectio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291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Anthropolog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ossil, bone, stone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ains (using datin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chniqu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Microscopic analysis –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len, scratches 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Experiments – flak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one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2720" y="2361960"/>
            <a:ext cx="2968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676680" cy="276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438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71492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3440" y="1676520"/>
            <a:ext cx="4030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6:30:38Z</dcterms:created>
  <dc:creator>Administrator</dc:creator>
  <dc:description/>
  <dc:language>en-US</dc:language>
  <cp:lastModifiedBy>OCDSB User</cp:lastModifiedBy>
  <dcterms:modified xsi:type="dcterms:W3CDTF">2012-09-14T13:17:04Z</dcterms:modified>
  <cp:revision>14</cp:revision>
  <dc:subject/>
  <dc:title>APS – Unit 1</dc:title>
</cp:coreProperties>
</file>